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986-1B69-42CD-927B-87F54559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7D4-D3E7-4718-815C-5810B51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FB8-63BE-466E-88BA-0F647017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E73-C606-4049-8AA4-C148068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9B7-B86F-4D42-83EC-6F61F63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803-EB42-4678-9617-1FA455EF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D00-6B59-4F0C-960F-1FE0F8D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3C-4A99-4F75-8A7F-3631163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2AA-1C99-4688-ABD3-F311244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5D1-FF05-4FCF-B0FA-1A25BE2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48D-D1F7-408C-BD33-36BC340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3B2-54E4-44DB-8DF1-7F1E8B5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794A-1366-4958-B528-48F42D9A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546120"/>
            <a:ext cx="77472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33720"/>
            <a:ext cx="5562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Purchasing 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63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6E9-2CB2-418D-BF0B-B0AFEC86D7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zation’s Supply Chai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44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6D1-D582-40FB-8C4C-C54D35D2F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urchasing and the Supply Chai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ply chain is the system of adding value beginning with acquiring raw materials (purchasing) and ending with product fie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attempt to achieve maximum value added in all the supply chai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urchases are driving down purchasing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 (SCM) software assists with demand planning, one of the most important areas of supply ch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3D3-F080-416D-9F4D-8E3287966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2 categories of SCM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y chain plan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data about orders from retail customers, sales from retail outlets, and data about manufacturing and delivery capability to assist in planning for each of the SCM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y chain exec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s assigned to this category as it receives customer orders, routes orders to an appropriate warehouse, and executes the invoice for the s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f the connections between players in the supply chain are B2B automated inte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sourcing step may be implemented through an automatic order sent to a supplier via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281-1EBA-4FD5-A6BA-BE70A0AE9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enefits of Managing the Supply Chai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osts to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availability of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esponse to customer request for product customization and other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inventories along the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lationships between buyers and se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workloads due to planned goods arrivals and departures, leading to reduced overtim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item costs as a result of planned purchases through contracts and other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ustomer orders due to improved customer respons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product defects through specifying quality during planning and sharing defect information with suppliers during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A30-31D9-4100-8FA7-4992907BF6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ngs that can go wrong in SCM initiative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ot collected or not shared across functiona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haring of information between supply chai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data in the supply chain negatively affects the entire 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-reliance on demand forecasting that may be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demand forecasting requires an intelligent combination of software tools and huma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objectives can lead to unrealistic foreca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may want a high target to ensure a successful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be un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promotion and production budgets will be inaccu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, on the other hand, will be evaluated on its ability to meet sales quotas and wants a lower demand forec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422-DEAF-435E-AF0B-EFB61C68A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itigating problems with SCM Initiatives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Summary 1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llaboration in the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P: Continuous Replenishment also call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I Vendor Managed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 Supplier Managed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managed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AR: Collaborative Forecasting and Replenishment (precursor to CPF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FR: Collaborative Planning Forecasting and Reple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192-FA54-4370-BF71-B2ED5E074A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itigating problems with SCM Initiatives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ummary 12.3: CPF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41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F28-768C-48C0-A8AB-8301B06C09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chasing Process—Context Dia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0100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BEC-09E5-4CB2-AB44-4F5D2FF91D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ventory Reorder Method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 point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s assigned a reorder point based on its sale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order qua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based on costs of ordering and carry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analysis a technique for ranking items in a group based on the output of th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analysis can be used to categorize inventory items according to thei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9AC-AB54-40A1-83E2-03152C679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rchasing Process—Level 0 Diagra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405480" cy="584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E4F-D636-4A0A-8549-F57CC25CA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the definition and basic functions of the purchasing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the relationship between the purchasing and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a reasonable understanding of the logical and physical characteristics of a typical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 familiar with some of the technology used to implement the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process controls and the plans used to control a typical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2362320"/>
            <a:ext cx="2667240" cy="2666880"/>
          </a:xfrm>
          <a:prstGeom prst="flowChartConnec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chas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390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213-B86F-4529-AC63-CE3649C86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34320" cy="477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61D-1851-430D-9F0E-464895E82D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997-9D12-48BD-B07A-16A3142350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Stores Used in the Purchasing Proces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of each item stocked or regularly or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information about approved vendors including vend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requisi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all purchase re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O information including status of items 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receip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item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47A-A8E4-416E-80F6-6894A2430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720" y="1066320"/>
            <a:ext cx="2590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 diagram - Purcha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79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5C1-7799-4AC3-968A-292310FB85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Process Systems Flow Char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5400000">
            <a:off x="1785960" y="-33120"/>
            <a:ext cx="5486400" cy="75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FE4-BFED-43B0-BB68-045C9AF031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Process Systems Flow Chart, Cont’d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5400000">
            <a:off x="1761840" y="142560"/>
            <a:ext cx="5476680" cy="76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6B9-089F-4801-96E6-FAE3F0356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raud and the Purchasing Fun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rauds involve manipulation of purchasing because it involves the payment of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cases included in this category of process exploitation are instances in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(e.g., a buyer, purchasing manager, or other person) places purchase orders with a particular vendor in exchange for a kickback, secret commission, or other form of inducement from the ven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e h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lict of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his responsibilities to his employer and his financial interest—direct or indirect—in a company with whom the employer does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A12-37F4-4611-8CC5-00C46A8732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rchasing Control Matrix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914400"/>
          <a:ext cx="8382240" cy="4816440"/>
        </p:xfrm>
        <a:graphic>
          <a:graphicData uri="http://schemas.openxmlformats.org/drawingml/2006/table">
            <a:tbl>
              <a:tblPr/>
              <a:tblGrid>
                <a:gridCol w="2293920"/>
                <a:gridCol w="441360"/>
                <a:gridCol w="422280"/>
                <a:gridCol w="393840"/>
                <a:gridCol w="593640"/>
                <a:gridCol w="576360"/>
                <a:gridCol w="458640"/>
                <a:gridCol w="393840"/>
                <a:gridCol w="423720"/>
                <a:gridCol w="347760"/>
                <a:gridCol w="441360"/>
                <a:gridCol w="396720"/>
                <a:gridCol w="331920"/>
                <a:gridCol w="426960"/>
                <a:gridCol w="439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urchasing Business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-ment of resour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inputs (i.e., requisitions)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vendor packing slip inputs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:  Approve purchase requi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:  Use authorized vendor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:  Independent vendor master data maintena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:  Compare vendors for favorable price, terms, quality, and product avail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:  Approve purchase or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:  Confirm purchase order to requesting depar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Automated data e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Independent authorization to record receip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Create audit trail for receip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:  Count goods and compare to vendor packing sl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:  Inspect goo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:  Monitor open purchase ord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7DD-6786-4DBB-95E0-02272D58A5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rol Matrix, Cont’d.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066680"/>
          <a:ext cx="7772400" cy="5237280"/>
        </p:xfrm>
        <a:graphic>
          <a:graphicData uri="http://schemas.openxmlformats.org/drawingml/2006/table">
            <a:tbl>
              <a:tblPr/>
              <a:tblGrid>
                <a:gridCol w="2243160"/>
                <a:gridCol w="342720"/>
                <a:gridCol w="357480"/>
                <a:gridCol w="306360"/>
                <a:gridCol w="433440"/>
                <a:gridCol w="496800"/>
                <a:gridCol w="304560"/>
                <a:gridCol w="281160"/>
                <a:gridCol w="304920"/>
                <a:gridCol w="331560"/>
                <a:gridCol w="236520"/>
                <a:gridCol w="457200"/>
                <a:gridCol w="457200"/>
                <a:gridCol w="428760"/>
                <a:gridCol w="407880"/>
                <a:gridCol w="382680"/>
              </a:tblGrid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urchasing Busines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-ment of resourc-e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inputs (i.e., requisitions)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vendor packing slip inputs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purchase order and inventory master data, ensure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Automated data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Independent authorization to record recei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Create audit trail for rece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:  Count goods and compare to vendor packing sl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:  Inspect go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:  Monitor open purchase o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9D1-67EA-472B-AC3F-1ABD90E384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cess Definitions and Func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acting structure of people, equipment, methods, and controls that is designed to accomplish the following primary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he repetitive work routines of the purchasing department and the receiving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he decision needs of those who manage the purchasing and receiving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n the preparation of internal and extern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2FD-FB26-4A98-B718-8E0ABB579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2438280"/>
            <a:ext cx="274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Purchase requisition sent from inventory control department to purchasing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C9D-8642-4D01-8175-2A87C97EB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220968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chase order sent to vendor (2a), inventory control (or various departments), 2b, receiving (2c), and accounts payable (2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3A0-9405-4571-AE1C-46D4F3DBA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51460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king slip (with goods) received from ven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79F-44F0-4F8D-9E13-918115A1A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209680"/>
            <a:ext cx="25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ck notice (with goods) sent to wareho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C70-03D6-4168-9FB7-0880286DA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Internal Perspective of Purchasing Proces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514600"/>
            <a:ext cx="27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ice of receipt sent to accounts payable (5a), general ledger (5b), and purchasing (5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40C-4616-4046-B62E-18C5CC87A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al Conflicts and Ambiguities in the Organiz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anagers’ goals may not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zationa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ing may buy large quantities of inventory for quantity discounts and to reduce order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drive up costs of receiving, inspecting, and carrying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ity often exists in defining goals and success in meeting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urchasing goals might 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select a vendor who will provide the best quality at the lowest price by the promised delive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stically, one vendor probably will not satisfy all thre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of goals is necessary in choo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given the various conflicts and constraints placed o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s are made in prioritizing among the goals that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market is sensitive to satisfying customer needs, the company may pay higher prices to ensure that it is procuring the best quality goods and obtaining them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75D-CCBE-41FA-A71D-D1861AEB9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2T01:09:01Z</dcterms:created>
  <dc:creator>Curt Westbrook</dc:creator>
  <dc:description/>
  <dc:language>en-US</dc:language>
  <cp:lastModifiedBy> </cp:lastModifiedBy>
  <cp:lastPrinted>1998-08-25T03:17:10Z</cp:lastPrinted>
  <dcterms:modified xsi:type="dcterms:W3CDTF">2007-06-26T15:41:05Z</dcterms:modified>
  <cp:revision>22</cp:revision>
  <dc:subject/>
  <dc:title>Chapter 12</dc:title>
</cp:coreProperties>
</file>